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19600" y="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ｺﾞｼｯｸUB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2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937584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19600" y="937584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598430C-79A1-4BFE-A70B-A205389995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19600" y="9375840"/>
            <a:ext cx="292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993A643-3254-4EDF-AE77-064F690C6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19600" y="9375840"/>
            <a:ext cx="292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3E2514B-43A4-4DA8-839A-6910DE29D7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19600" y="9375840"/>
            <a:ext cx="292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77300E7-033F-4019-8D8E-A1F72BF136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19600" y="9375840"/>
            <a:ext cx="292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E1DB980-B999-48BB-A8E7-95BC82E2D5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6F658-BF6E-4B14-A30C-AF002AA809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855972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5320" y="3825720"/>
            <a:ext cx="855972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54B0B-E0BE-4085-A120-5820EF48E9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1560" y="100944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5320" y="382572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1560" y="382572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B000B-670F-4396-BDE3-B17A2180CE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27561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9720" y="1009440"/>
            <a:ext cx="27561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44120" y="1009440"/>
            <a:ext cx="27561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55320" y="3825720"/>
            <a:ext cx="27561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9720" y="3825720"/>
            <a:ext cx="27561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44120" y="3825720"/>
            <a:ext cx="27561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A7B83-6FF4-45AE-BCE5-3E5C3B6D5E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55320" y="1009440"/>
            <a:ext cx="8559720" cy="53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85597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417708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1560" y="1009440"/>
            <a:ext cx="417708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56760" y="75960"/>
            <a:ext cx="83581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1560" y="1009440"/>
            <a:ext cx="417708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55320" y="382572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55320" y="1009440"/>
            <a:ext cx="8559720" cy="53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B6B09-78CC-4E7F-80B7-EDDD31B05A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417708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1560" y="100944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41560" y="382572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1560" y="100944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55320" y="3825720"/>
            <a:ext cx="855972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855972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5320" y="3825720"/>
            <a:ext cx="855972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41560" y="100944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55320" y="382572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41560" y="382572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27561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49720" y="1009440"/>
            <a:ext cx="27561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44120" y="1009440"/>
            <a:ext cx="27561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55320" y="3825720"/>
            <a:ext cx="27561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49720" y="3825720"/>
            <a:ext cx="27561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44120" y="3825720"/>
            <a:ext cx="27561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85597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23715-B0E9-4F6A-8464-62B4379839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417708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1560" y="1009440"/>
            <a:ext cx="417708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EF9ED-4FAE-4491-986F-0AC26D0017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13F53-30FD-4246-A3D1-09116A6998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56760" y="75960"/>
            <a:ext cx="83581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D1487-8BAE-48C2-9D26-8A8F9F9C06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1560" y="1009440"/>
            <a:ext cx="417708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5320" y="382572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3AF60-1AB0-4D19-97D2-85464E049E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417708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1560" y="100944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1560" y="382572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C5210-BEA7-4356-A4A1-C90354F22E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1560" y="100944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5320" y="3825720"/>
            <a:ext cx="855972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A58E5-01B5-4B2A-AE1B-C3F2A68998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8358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ｺﾞｼｯｸUB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5320" y="1009440"/>
            <a:ext cx="85597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HG創英角ｺﾞｼｯｸUB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HG創英角ｺﾞｼｯｸUB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HG創英角ｺﾞｼｯｸUB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HG創英角ｺﾞｼｯｸUB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HG創英角ｺﾞｼｯｸUB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HG創英角ｺﾞｼｯｸUB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pic>
        <p:nvPicPr>
          <p:cNvPr id="2" name="Picture 7" descr=""/>
          <p:cNvPicPr/>
          <p:nvPr/>
        </p:nvPicPr>
        <p:blipFill>
          <a:blip r:embed="rId2"/>
          <a:stretch/>
        </p:blipFill>
        <p:spPr>
          <a:xfrm>
            <a:off x="8072280" y="76320"/>
            <a:ext cx="928800" cy="6969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39"/>
          <p:cNvSpPr/>
          <p:nvPr/>
        </p:nvSpPr>
        <p:spPr>
          <a:xfrm>
            <a:off x="0" y="6546960"/>
            <a:ext cx="9144000" cy="311040"/>
          </a:xfrm>
          <a:prstGeom prst="rect">
            <a:avLst/>
          </a:prstGeom>
          <a:solidFill>
            <a:srgbClr val="0061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543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HGPｺﾞｼｯｸE"/>
                <a:ea typeface="HGPｺﾞｼｯｸ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GPｺﾞｼｯｸE"/>
                <a:ea typeface="HGPｺﾞｼｯｸE"/>
              </a:rPr>
              <a:t>PAGE</a:t>
            </a:r>
            <a:fld id="{CDEE1C0A-2E92-4BD6-9E15-5C239A4F796D}" type="slidenum">
              <a:rPr b="0" lang="en-US" sz="1000" spc="-1" strike="noStrike">
                <a:solidFill>
                  <a:srgbClr val="ffffff"/>
                </a:solidFill>
                <a:latin typeface="HGPｺﾞｼｯｸE"/>
                <a:ea typeface="HGPｺﾞｼｯｸ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23"/>
          <p:cNvSpPr/>
          <p:nvPr/>
        </p:nvSpPr>
        <p:spPr>
          <a:xfrm>
            <a:off x="0" y="6606360"/>
            <a:ext cx="701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Tahoma"/>
                <a:ea typeface="HGP創英角ｺﾞｼｯｸUB"/>
              </a:rPr>
              <a:t>株式会社手嶋屋：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HGP創英角ｺﾞｼｯｸUB"/>
              </a:rPr>
              <a:t>http://www.tejimaya.com                                (c) 2002-. Tejimaya Inc. All Rights Reserved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4" descr="meishi_ura_yoko"/>
          <p:cNvPicPr/>
          <p:nvPr/>
        </p:nvPicPr>
        <p:blipFill>
          <a:blip r:embed="rId3"/>
          <a:stretch/>
        </p:blipFill>
        <p:spPr>
          <a:xfrm>
            <a:off x="8458200" y="6553080"/>
            <a:ext cx="609480" cy="304920"/>
          </a:xfrm>
          <a:prstGeom prst="rect">
            <a:avLst/>
          </a:prstGeom>
          <a:ln w="0">
            <a:noFill/>
          </a:ln>
        </p:spPr>
      </p:pic>
      <p:sp>
        <p:nvSpPr>
          <p:cNvPr id="7" name="Line 10"/>
          <p:cNvSpPr/>
          <p:nvPr/>
        </p:nvSpPr>
        <p:spPr>
          <a:xfrm>
            <a:off x="380880" y="609480"/>
            <a:ext cx="762012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9"/>
          <p:cNvSpPr/>
          <p:nvPr/>
        </p:nvSpPr>
        <p:spPr>
          <a:xfrm>
            <a:off x="0" y="6429240"/>
            <a:ext cx="9144000" cy="428760"/>
          </a:xfrm>
          <a:prstGeom prst="rect">
            <a:avLst/>
          </a:prstGeom>
          <a:solidFill>
            <a:srgbClr val="0061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meishi_ura_yoko"/>
          <p:cNvPicPr/>
          <p:nvPr/>
        </p:nvPicPr>
        <p:blipFill>
          <a:blip r:embed="rId2"/>
          <a:stretch/>
        </p:blipFill>
        <p:spPr>
          <a:xfrm>
            <a:off x="8458200" y="6523200"/>
            <a:ext cx="609480" cy="3254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23"/>
          <p:cNvSpPr/>
          <p:nvPr/>
        </p:nvSpPr>
        <p:spPr>
          <a:xfrm>
            <a:off x="0" y="6612840"/>
            <a:ext cx="701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Tahoma"/>
                <a:ea typeface="HGP創英角ｺﾞｼｯｸUB"/>
              </a:rPr>
              <a:t>株式会社手嶋屋：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HGP創英角ｺﾞｼｯｸUB"/>
              </a:rPr>
              <a:t>http://www.tejimaya.com                                (c) 2010. Tejimaya Inc. All Rights Reserved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2" descr=""/>
          <p:cNvPicPr/>
          <p:nvPr/>
        </p:nvPicPr>
        <p:blipFill>
          <a:blip r:embed="rId3"/>
          <a:stretch/>
        </p:blipFill>
        <p:spPr>
          <a:xfrm>
            <a:off x="0" y="847800"/>
            <a:ext cx="6153120" cy="5581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4"/>
          <a:stretch/>
        </p:blipFill>
        <p:spPr>
          <a:xfrm>
            <a:off x="8072280" y="142920"/>
            <a:ext cx="928800" cy="696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8358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ｺﾞｼｯｸUB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355320" y="1009440"/>
            <a:ext cx="85597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HG創英角ｺﾞｼｯｸUB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HG創英角ｺﾞｼｯｸUB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HG創英角ｺﾞｼｯｸUB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HG創英角ｺﾞｼｯｸUB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HG創英角ｺﾞｼｯｸUB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HG創英角ｺﾞｼｯｸUB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76920" y="1905120"/>
            <a:ext cx="4038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HGP創英角ｺﾞｼｯｸUB"/>
              </a:rPr>
              <a:t>アクセスブロック</a:t>
            </a:r>
            <a:r>
              <a:rPr b="0" lang="en-US" sz="2600" spc="-1" strike="noStrike">
                <a:solidFill>
                  <a:srgbClr val="000000"/>
                </a:solidFill>
                <a:latin typeface="HGP創英角ｺﾞｼｯｸUB"/>
              </a:rPr>
              <a:t>【</a:t>
            </a:r>
            <a:r>
              <a:rPr b="0" lang="ja-JP" sz="2600" spc="-1" strike="noStrike">
                <a:solidFill>
                  <a:srgbClr val="000000"/>
                </a:solidFill>
                <a:latin typeface="HGP創英角ｺﾞｼｯｸUB"/>
              </a:rPr>
              <a:t>改善版</a:t>
            </a:r>
            <a:r>
              <a:rPr b="0" lang="en-US" sz="2600" spc="-1" strike="noStrike">
                <a:solidFill>
                  <a:srgbClr val="000000"/>
                </a:solidFill>
                <a:latin typeface="HGP創英角ｺﾞｼｯｸUB"/>
              </a:rPr>
              <a:t>】</a:t>
            </a:r>
            <a:br>
              <a:rPr sz="2600"/>
            </a:br>
            <a:r>
              <a:rPr b="0" lang="ja-JP" sz="2600" spc="-1" strike="noStrike">
                <a:solidFill>
                  <a:srgbClr val="000000"/>
                </a:solidFill>
                <a:latin typeface="HGP創英角ｺﾞｼｯｸUB"/>
              </a:rPr>
              <a:t>仕様書</a:t>
            </a:r>
            <a:endParaRPr b="0" lang="en-US" sz="26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1"/>
          <a:stretch/>
        </p:blipFill>
        <p:spPr>
          <a:xfrm>
            <a:off x="7929720" y="142920"/>
            <a:ext cx="1071360" cy="803160"/>
          </a:xfrm>
          <a:prstGeom prst="rect">
            <a:avLst/>
          </a:prstGeom>
          <a:ln w="0">
            <a:noFill/>
          </a:ln>
        </p:spPr>
      </p:pic>
      <p:sp>
        <p:nvSpPr>
          <p:cNvPr id="96" name="テキスト ボックス 5"/>
          <p:cNvSpPr/>
          <p:nvPr/>
        </p:nvSpPr>
        <p:spPr>
          <a:xfrm>
            <a:off x="7175160" y="5470560"/>
            <a:ext cx="1600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1</a:t>
            </a: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8</a:t>
            </a: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株式会社手嶋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線コネクタ 9"/>
          <p:cNvSpPr/>
          <p:nvPr/>
        </p:nvSpPr>
        <p:spPr>
          <a:xfrm>
            <a:off x="4876920" y="28195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スライド番号プレースホルダ 4"/>
          <p:cNvSpPr/>
          <p:nvPr/>
        </p:nvSpPr>
        <p:spPr>
          <a:xfrm>
            <a:off x="76960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GPｺﾞｼｯｸE"/>
                <a:ea typeface="HGPｺﾞｼｯｸE"/>
              </a:rPr>
              <a:t>PAGE</a:t>
            </a:r>
            <a:fld id="{C69B98EB-AC46-44AE-A593-561D14E69B3B}" type="slidenum">
              <a:rPr b="0" lang="en-US" sz="1000" spc="-1" strike="noStrike">
                <a:solidFill>
                  <a:srgbClr val="ffffff"/>
                </a:solidFill>
                <a:latin typeface="HGPｺﾞｼｯｸE"/>
                <a:ea typeface="HGPｺﾞｼｯｸ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04920" y="914400"/>
            <a:ext cx="84582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本資料は、以下を目的と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アクセスブロック機能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改善版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の仕様を提示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83581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本資料の目的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スライド番号プレースホルダ 4"/>
          <p:cNvSpPr/>
          <p:nvPr/>
        </p:nvSpPr>
        <p:spPr>
          <a:xfrm>
            <a:off x="76960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GPｺﾞｼｯｸE"/>
                <a:ea typeface="HGPｺﾞｼｯｸE"/>
              </a:rPr>
              <a:t>PAGE</a:t>
            </a:r>
            <a:fld id="{D2CC6B7A-1D42-4152-AA20-EFAC076202B7}" type="slidenum">
              <a:rPr b="0" lang="en-US" sz="1000" spc="-1" strike="noStrike">
                <a:solidFill>
                  <a:srgbClr val="ffffff"/>
                </a:solidFill>
                <a:latin typeface="HGPｺﾞｼｯｸE"/>
                <a:ea typeface="HGPｺﾞｼｯｸ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304920" y="609480"/>
            <a:ext cx="63244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表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登録済みのメンバーを一覧表示す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各行に下記の内容を表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ニックネーム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リンク表示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→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遷移先：フレンドトップページ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削除リン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例：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ジロ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削除す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] 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10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件ずつのページャ表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表示順は登録メンバー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D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member_relationship 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の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member_id_to 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の昇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その他の表示上の仕様は、メンバー検索結果ページの仕様に従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57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登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メンバー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D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を入力して登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のフォームを利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確認・完了画面は実装し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完了メッセージを表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例：「</a:t>
            </a: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ﾒﾝﾊﾞｰ</a:t>
            </a:r>
            <a:r>
              <a:rPr b="0" lang="en-US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ID:35</a:t>
            </a: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を追加しました。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下記入力値をエラーとする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エラーメッセージを表示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)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空文字列　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→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「</a:t>
            </a: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必須項目です。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自然数以外の文字列　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→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「</a:t>
            </a: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正しくありません。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自分の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D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　　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→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「</a:t>
            </a: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自分のﾒﾝﾊﾞｰ</a:t>
            </a:r>
            <a:r>
              <a:rPr b="0" lang="en-US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ID</a:t>
            </a: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です。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存在しない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D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→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「</a:t>
            </a: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既に退会したか、存在しないﾒﾝﾊﾞｰ</a:t>
            </a:r>
            <a:r>
              <a:rPr b="0" lang="en-US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ID</a:t>
            </a: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です。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登録済みの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D →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「</a:t>
            </a: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既に登録済みのﾒﾝﾊﾞｰ</a:t>
            </a:r>
            <a:r>
              <a:rPr b="0" lang="en-US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ID</a:t>
            </a: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です。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エラー時は値を引き継ぎ、テキストボックス内に表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83581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機能概要（表示・登録）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pic>
        <p:nvPicPr>
          <p:cNvPr id="104" name="図 6" descr=""/>
          <p:cNvPicPr/>
          <p:nvPr/>
        </p:nvPicPr>
        <p:blipFill>
          <a:blip r:embed="rId1"/>
          <a:stretch/>
        </p:blipFill>
        <p:spPr>
          <a:xfrm>
            <a:off x="6235560" y="905040"/>
            <a:ext cx="1865520" cy="54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 4"/>
          <p:cNvSpPr/>
          <p:nvPr/>
        </p:nvSpPr>
        <p:spPr>
          <a:xfrm>
            <a:off x="76960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GPｺﾞｼｯｸE"/>
                <a:ea typeface="HGPｺﾞｼｯｸE"/>
              </a:rPr>
              <a:t>PAGE</a:t>
            </a:r>
            <a:fld id="{12D48622-8F6B-4F7F-BF05-6903CC05F070}" type="slidenum">
              <a:rPr b="0" lang="en-US" sz="1000" spc="-1" strike="noStrike">
                <a:solidFill>
                  <a:srgbClr val="ffffff"/>
                </a:solidFill>
                <a:latin typeface="HGPｺﾞｼｯｸE"/>
                <a:ea typeface="HGPｺﾞｼｯｸ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04920" y="609480"/>
            <a:ext cx="63244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覧表示内のリンクを押下することで削除確認画面へ遷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確認画面の表示は下図参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削除対象メンバーのニックネームと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メンバー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D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を表示す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削除確認画面で「削除する」を押下することで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完了画面は実装し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完了メッセージを表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例：「</a:t>
            </a: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ﾒﾝﾊﾞｰ</a:t>
            </a:r>
            <a:r>
              <a:rPr b="0" lang="en-US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ID:35</a:t>
            </a: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を削除しました。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下記値が送信された場合はエラーと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自然数以外の文字列・空文字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自分のメンバー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存在しないメンバー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未登録のメンバー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エラーの場合は下記画面を表示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ステータスコード：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4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83581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機能概要（削除）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pic>
        <p:nvPicPr>
          <p:cNvPr id="108" name="図 7" descr="スクリーンショット（2011-02-01 14.10.20）.png"/>
          <p:cNvPicPr/>
          <p:nvPr/>
        </p:nvPicPr>
        <p:blipFill>
          <a:blip r:embed="rId1"/>
          <a:stretch/>
        </p:blipFill>
        <p:spPr>
          <a:xfrm>
            <a:off x="1066680" y="5486400"/>
            <a:ext cx="3238560" cy="876240"/>
          </a:xfrm>
          <a:prstGeom prst="rect">
            <a:avLst/>
          </a:prstGeom>
          <a:ln w="0">
            <a:noFill/>
          </a:ln>
        </p:spPr>
      </p:pic>
      <p:pic>
        <p:nvPicPr>
          <p:cNvPr id="109" name="図 4" descr=""/>
          <p:cNvPicPr/>
          <p:nvPr/>
        </p:nvPicPr>
        <p:blipFill>
          <a:blip r:embed="rId2"/>
          <a:stretch/>
        </p:blipFill>
        <p:spPr>
          <a:xfrm>
            <a:off x="1547640" y="1515960"/>
            <a:ext cx="2400480" cy="1552680"/>
          </a:xfrm>
          <a:prstGeom prst="rect">
            <a:avLst/>
          </a:prstGeom>
          <a:ln w="0">
            <a:noFill/>
          </a:ln>
        </p:spPr>
      </p:pic>
      <p:pic>
        <p:nvPicPr>
          <p:cNvPr id="110" name="図 1" descr=""/>
          <p:cNvPicPr/>
          <p:nvPr/>
        </p:nvPicPr>
        <p:blipFill>
          <a:blip r:embed="rId3"/>
          <a:stretch/>
        </p:blipFill>
        <p:spPr>
          <a:xfrm>
            <a:off x="6235560" y="905040"/>
            <a:ext cx="1865520" cy="54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0:10:54Z</dcterms:created>
  <dc:creator>手嶋屋</dc:creator>
  <dc:description/>
  <dc:language>en-US</dc:language>
  <cp:lastModifiedBy>yuya</cp:lastModifiedBy>
  <dcterms:modified xsi:type="dcterms:W3CDTF">2011-05-09T08:27:44Z</dcterms:modified>
  <cp:revision>1682</cp:revision>
  <dc:subject/>
  <dc:title>スライド 1</dc:title>
</cp:coreProperties>
</file>