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85C-631D-49D7-8ACD-285C1F2A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58712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7DC-4843-4242-A6F2-7431F5C7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80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D74-1432-497F-AF2F-B91E6D27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00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988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00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988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559-9D37-46D4-8A1D-8C59ECCD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346-4252-42B0-9A02-7BC0BCF1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9EC-1F61-4B7E-8E65-2A05226A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E84-2219-4A72-A841-E988C073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1CF-A035-4142-93F2-75D869D2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95440"/>
            <a:ext cx="86328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69D-6257-43A8-83F2-85B485A6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205-FA08-417F-B1D2-7F56D93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80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37C-E2B3-4452-8EDA-E831E844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D50-8ECE-4B68-8A28-6345701C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42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400" y="6942240"/>
            <a:ext cx="321624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43BCB-7E54-4E15-AC20-B4A0206A101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367000"/>
            <a:ext cx="863424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アクセスブロッ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C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版仕様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520" y="4319640"/>
            <a:ext cx="711036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スライド番号プレースホルダー 5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2405B-8B28-43DE-98B7-15CB9663204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資料の目的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資料は、以下を目的とす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機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</a:t>
            </a: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版の仕様を提示す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EC723-6F63-4317-B302-8BADFA8E233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既存の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320" y="15066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登録機能（図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登録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何をすれば登録できるか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改善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アクセスブロックの名称を変え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一覧機能（図２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し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表示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どれを登録したのか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送信を押下するたびに入力欄が増え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どれを失敗したか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改善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登録を一つずつ行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失敗した理由を表示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削除機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し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削除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削除する方法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正しく削除されたか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そもそも削除機能に該当する機能がな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7080" y="1650960"/>
            <a:ext cx="5040360" cy="1346400"/>
          </a:xfrm>
          <a:prstGeom prst="rect">
            <a:avLst/>
          </a:prstGeom>
          <a:ln w="0">
            <a:noFill/>
          </a:ln>
        </p:spPr>
      </p:pic>
      <p:pic>
        <p:nvPicPr>
          <p:cNvPr id="55" name="図 1" descr=""/>
          <p:cNvPicPr/>
          <p:nvPr/>
        </p:nvPicPr>
        <p:blipFill>
          <a:blip r:embed="rId2"/>
          <a:stretch/>
        </p:blipFill>
        <p:spPr>
          <a:xfrm>
            <a:off x="4937040" y="3882960"/>
            <a:ext cx="4780080" cy="2519280"/>
          </a:xfrm>
          <a:prstGeom prst="rect">
            <a:avLst/>
          </a:prstGeom>
          <a:ln w="0">
            <a:noFill/>
          </a:ln>
        </p:spPr>
      </p:pic>
      <p:sp>
        <p:nvSpPr>
          <p:cNvPr id="56" name="正方形/長方形 4"/>
          <p:cNvSpPr/>
          <p:nvPr/>
        </p:nvSpPr>
        <p:spPr>
          <a:xfrm>
            <a:off x="5438880" y="320976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登録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正方形/長方形 10"/>
          <p:cNvSpPr/>
          <p:nvPr/>
        </p:nvSpPr>
        <p:spPr>
          <a:xfrm>
            <a:off x="5288040" y="654696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069A3-CB13-4374-8CA3-43C74134A66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登録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をブロックする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登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動作を行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ブロック一覧画面（図３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入力して「送信」ボタン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追加メッセージを表示（図４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82640" y="3801960"/>
            <a:ext cx="3505320" cy="239076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1"/>
          <p:cNvSpPr/>
          <p:nvPr/>
        </p:nvSpPr>
        <p:spPr>
          <a:xfrm>
            <a:off x="6942960" y="67626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アクセスブロック一覧画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正方形/長方形 2"/>
          <p:cNvSpPr/>
          <p:nvPr/>
        </p:nvSpPr>
        <p:spPr>
          <a:xfrm>
            <a:off x="511200" y="6473880"/>
            <a:ext cx="43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追加メッセージを表示した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図 1" descr=""/>
          <p:cNvPicPr/>
          <p:nvPr/>
        </p:nvPicPr>
        <p:blipFill>
          <a:blip r:embed="rId2"/>
          <a:stretch/>
        </p:blipFill>
        <p:spPr>
          <a:xfrm>
            <a:off x="4643280" y="1290600"/>
            <a:ext cx="5486400" cy="524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578560" y="1866960"/>
            <a:ext cx="3168720" cy="86364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図 9" descr=""/>
          <p:cNvPicPr/>
          <p:nvPr/>
        </p:nvPicPr>
        <p:blipFill>
          <a:blip r:embed="rId1"/>
          <a:stretch/>
        </p:blipFill>
        <p:spPr>
          <a:xfrm>
            <a:off x="4862520" y="1851120"/>
            <a:ext cx="4824360" cy="4613040"/>
          </a:xfrm>
          <a:prstGeom prst="rect">
            <a:avLst/>
          </a:prstGeom>
          <a:ln w="0">
            <a:noFill/>
          </a:ln>
        </p:spPr>
      </p:pic>
      <p:sp>
        <p:nvSpPr>
          <p:cNvPr id="68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9E983-4D0D-4941-BCD3-D06A6160264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一覧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830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を登録したメンバーを表示（図５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０件のページャ表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要素を記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プロフィール画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ニックネー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リン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1320" y="1420920"/>
            <a:ext cx="45849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654520" y="2946240"/>
            <a:ext cx="2953080" cy="358956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正方形/長方形 7"/>
          <p:cNvSpPr/>
          <p:nvPr/>
        </p:nvSpPr>
        <p:spPr>
          <a:xfrm>
            <a:off x="5295960" y="653580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図 2" descr=""/>
          <p:cNvPicPr/>
          <p:nvPr/>
        </p:nvPicPr>
        <p:blipFill>
          <a:blip r:embed="rId1"/>
          <a:stretch/>
        </p:blipFill>
        <p:spPr>
          <a:xfrm>
            <a:off x="4325760" y="2462040"/>
            <a:ext cx="492948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図 1" descr=""/>
          <p:cNvPicPr/>
          <p:nvPr/>
        </p:nvPicPr>
        <p:blipFill>
          <a:blip r:embed="rId2"/>
          <a:stretch/>
        </p:blipFill>
        <p:spPr>
          <a:xfrm>
            <a:off x="4321080" y="887400"/>
            <a:ext cx="5305680" cy="1333440"/>
          </a:xfrm>
          <a:prstGeom prst="rect">
            <a:avLst/>
          </a:prstGeom>
          <a:ln w="0">
            <a:noFill/>
          </a:ln>
        </p:spPr>
      </p:pic>
      <p:sp>
        <p:nvSpPr>
          <p:cNvPr id="76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97BE5-DD93-4992-A6DA-14B4DB39DF3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削除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を登録している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削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動作を行う（図６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ブロック一覧画面（図６上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削除リンク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確認画面へ遷移（図６中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「削除する」ボタン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メッセージを表示（図６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462880" y="1433520"/>
            <a:ext cx="720720" cy="36036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540480" y="3603600"/>
            <a:ext cx="755640" cy="28908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正方形/長方形 10"/>
          <p:cNvSpPr/>
          <p:nvPr/>
        </p:nvSpPr>
        <p:spPr>
          <a:xfrm>
            <a:off x="4070520" y="6769080"/>
            <a:ext cx="629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: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したメンバーに対するアクセスブロックの登録を削除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図 3" descr=""/>
          <p:cNvPicPr/>
          <p:nvPr/>
        </p:nvPicPr>
        <p:blipFill>
          <a:blip r:embed="rId3"/>
          <a:stretch/>
        </p:blipFill>
        <p:spPr>
          <a:xfrm>
            <a:off x="4336920" y="4346640"/>
            <a:ext cx="49071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yuya</cp:lastModifiedBy>
  <dcterms:modified xsi:type="dcterms:W3CDTF">2011-05-09T08:02:02Z</dcterms:modified>
  <cp:revision>14</cp:revision>
  <dc:subject/>
  <dc:title>PowerPoint Presentation</dc:title>
</cp:coreProperties>
</file>