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960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2F8AE1-5E2F-42E5-B055-FB535DD26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371F15-9CAC-4634-8803-4BC3E8E58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D51460-A9CD-4FB6-90E0-7D3248301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504CDB8-8D3F-49C6-B715-868AA3B94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1AB78F-640A-40DA-94EC-F76923565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F798-CAA3-4435-BF2A-59F24D2CB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C7BB-5792-474A-A103-52A335050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1200-99CF-405E-ABC5-8CF68B75B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E53A-057D-433C-90BE-9DA993B7B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F1A6-7647-4A79-8783-A8F8F21F7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3B8A-423E-412D-865A-348EDCBD8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A27E-DBA4-44B9-A664-2E4301C9B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A315-7898-4E8A-A2FF-246ED199B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5D5C-3295-4220-BE6D-9EA136762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8A60-CE76-4B1B-A738-5FB260878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2773-230F-4D8A-8191-CD745D204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847E-E0ED-48DA-AE28-E78411ECD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8072280" y="763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9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43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17789896-2055-40A7-8465-CE64ACA5587F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3"/>
          <p:cNvSpPr/>
          <p:nvPr/>
        </p:nvSpPr>
        <p:spPr>
          <a:xfrm>
            <a:off x="0" y="660636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02-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meishi_ura_yoko"/>
          <p:cNvPicPr/>
          <p:nvPr/>
        </p:nvPicPr>
        <p:blipFill>
          <a:blip r:embed="rId3"/>
          <a:stretch/>
        </p:blipFill>
        <p:spPr>
          <a:xfrm>
            <a:off x="8458200" y="6553080"/>
            <a:ext cx="609480" cy="304920"/>
          </a:xfrm>
          <a:prstGeom prst="rect">
            <a:avLst/>
          </a:prstGeom>
          <a:ln w="0">
            <a:noFill/>
          </a:ln>
        </p:spPr>
      </p:pic>
      <p:sp>
        <p:nvSpPr>
          <p:cNvPr id="7" name="Line 10"/>
          <p:cNvSpPr/>
          <p:nvPr/>
        </p:nvSpPr>
        <p:spPr>
          <a:xfrm>
            <a:off x="380880" y="609480"/>
            <a:ext cx="76201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9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eishi_ura_yoko"/>
          <p:cNvPicPr/>
          <p:nvPr/>
        </p:nvPicPr>
        <p:blipFill>
          <a:blip r:embed="rId2"/>
          <a:stretch/>
        </p:blipFill>
        <p:spPr>
          <a:xfrm>
            <a:off x="8458200" y="6523200"/>
            <a:ext cx="609480" cy="32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3"/>
          <p:cNvSpPr/>
          <p:nvPr/>
        </p:nvSpPr>
        <p:spPr>
          <a:xfrm>
            <a:off x="0" y="6612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10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2" descr=""/>
          <p:cNvPicPr/>
          <p:nvPr/>
        </p:nvPicPr>
        <p:blipFill>
          <a:blip r:embed="rId3"/>
          <a:stretch/>
        </p:blipFill>
        <p:spPr>
          <a:xfrm>
            <a:off x="0" y="847800"/>
            <a:ext cx="6153120" cy="558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8072280" y="1429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920" y="19051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アクセスブロック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【</a:t>
            </a: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改善版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】</a:t>
            </a:r>
            <a:br>
              <a:rPr sz="2600"/>
            </a:b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仕様書</a:t>
            </a:r>
            <a:endParaRPr b="0" lang="en-US" sz="2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7929720" y="142920"/>
            <a:ext cx="1071360" cy="80316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5"/>
          <p:cNvSpPr/>
          <p:nvPr/>
        </p:nvSpPr>
        <p:spPr>
          <a:xfrm>
            <a:off x="7175160" y="5470560"/>
            <a:ext cx="1600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8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株式会社手嶋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コネクタ 9"/>
          <p:cNvSpPr/>
          <p:nvPr/>
        </p:nvSpPr>
        <p:spPr>
          <a:xfrm>
            <a:off x="487692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27E657F9-428C-4E83-B702-1AC9ECA662CA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9144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本資料は、以下を目的と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アクセスブロック機能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改善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仕様を提示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本資料の目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4088105A-2A45-4F89-AC35-298F9AAAEF1F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メンバーを一覧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行に下記の内容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ニックネーム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リンク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遷移先：フレンドトップページ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リン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ジロ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す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件ずつのページャ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順は登録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relationship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id_to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昇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他の表示上の仕様は、メンバー検索結果ページの仕様に従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入力して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のフォーム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・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追加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入力値をエラーとする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メッセージ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空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必須項目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正しくありません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自分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退会したか、存在しない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登録済み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時は値を引き継ぎ、テキストボックス内に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表示・登録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4" name="図 6" descr=""/>
          <p:cNvPicPr/>
          <p:nvPr/>
        </p:nvPicPr>
        <p:blipFill>
          <a:blip r:embed="rId1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15B21823-B559-4E5F-A4F1-1A5D4786A354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覧表示内のリンクを押下することで削除確認画面へ遷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画面の表示は下図参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対象メンバーのニックネームと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確認画面で「削除する」を押下することで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削除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値が送信された場合はエラー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・空文字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未登録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の場合は下記画面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タスコード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削除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8" name="図 7" descr="スクリーンショット（2011-02-01 14.10.20）.png"/>
          <p:cNvPicPr/>
          <p:nvPr/>
        </p:nvPicPr>
        <p:blipFill>
          <a:blip r:embed="rId1"/>
          <a:stretch/>
        </p:blipFill>
        <p:spPr>
          <a:xfrm>
            <a:off x="1066680" y="5486400"/>
            <a:ext cx="3238560" cy="876240"/>
          </a:xfrm>
          <a:prstGeom prst="rect">
            <a:avLst/>
          </a:prstGeom>
          <a:ln w="0">
            <a:noFill/>
          </a:ln>
        </p:spPr>
      </p:pic>
      <p:pic>
        <p:nvPicPr>
          <p:cNvPr id="109" name="図 4" descr=""/>
          <p:cNvPicPr/>
          <p:nvPr/>
        </p:nvPicPr>
        <p:blipFill>
          <a:blip r:embed="rId2"/>
          <a:stretch/>
        </p:blipFill>
        <p:spPr>
          <a:xfrm>
            <a:off x="1547640" y="1515960"/>
            <a:ext cx="2400480" cy="1552680"/>
          </a:xfrm>
          <a:prstGeom prst="rect">
            <a:avLst/>
          </a:prstGeom>
          <a:ln w="0">
            <a:noFill/>
          </a:ln>
        </p:spPr>
      </p:pic>
      <p:pic>
        <p:nvPicPr>
          <p:cNvPr id="110" name="図 1" descr=""/>
          <p:cNvPicPr/>
          <p:nvPr/>
        </p:nvPicPr>
        <p:blipFill>
          <a:blip r:embed="rId3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10:54Z</dcterms:created>
  <dc:creator>手嶋屋</dc:creator>
  <dc:description/>
  <dc:language>en-US</dc:language>
  <cp:lastModifiedBy>yuya</cp:lastModifiedBy>
  <dcterms:modified xsi:type="dcterms:W3CDTF">2011-05-09T08:27:44Z</dcterms:modified>
  <cp:revision>1682</cp:revision>
  <dc:subject/>
  <dc:title>スライド 1</dc:title>
</cp:coreProperties>
</file>