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43F-8F27-4113-983C-CBC67383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E48-04D9-4D7D-800D-9C776DD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3FD-58B6-4314-9E0A-A1AA5635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00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988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00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988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EDC-8AC1-4E56-B0FB-521A6654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CCB-2883-46F9-B4A9-3B54AF1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A7D-C200-48F3-93C2-346E4C8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AEF-7B13-440D-A191-C593B0D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506-15A7-4E87-A105-EFCE63E9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95440"/>
            <a:ext cx="86328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3A0-2D4D-4BB9-835B-4A7AFC7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26B-1BFC-4A3E-857A-14C31FE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F5B-F1EC-4A1C-B7EA-8D6F0AF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2CD-7430-40A6-94CA-76C5DC5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400" y="6942240"/>
            <a:ext cx="321624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8B899-398D-45AF-AE9E-523D8A3B5D4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367000"/>
            <a:ext cx="863424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C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版仕様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520" y="4319640"/>
            <a:ext cx="711036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スライド番号プレースホルダー 5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7BCA3-D3FC-49B3-820E-8820F01483F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の目的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は、以下を目的と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機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版の仕様を提示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9E1CC-0D34-4FE1-8C78-6DE09B2D442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既存の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320" y="15066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登録機能（図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何をすれば登録できる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アクセスブロックの名称を変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一覧機能（図２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登録したの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送信を押下するたびに入力欄が増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失敗した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登録を一つずつ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失敗した理由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削除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削除する方法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正しく削除された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そもそも削除機能に該当する機能がな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7080" y="1650960"/>
            <a:ext cx="5040360" cy="1346400"/>
          </a:xfrm>
          <a:prstGeom prst="rect">
            <a:avLst/>
          </a:prstGeom>
          <a:ln w="0">
            <a:noFill/>
          </a:ln>
        </p:spPr>
      </p:pic>
      <p:pic>
        <p:nvPicPr>
          <p:cNvPr id="55" name="図 1" descr=""/>
          <p:cNvPicPr/>
          <p:nvPr/>
        </p:nvPicPr>
        <p:blipFill>
          <a:blip r:embed="rId2"/>
          <a:stretch/>
        </p:blipFill>
        <p:spPr>
          <a:xfrm>
            <a:off x="4937040" y="3882960"/>
            <a:ext cx="4780080" cy="2519280"/>
          </a:xfrm>
          <a:prstGeom prst="rect">
            <a:avLst/>
          </a:prstGeom>
          <a:ln w="0">
            <a:noFill/>
          </a:ln>
        </p:spPr>
      </p:pic>
      <p:sp>
        <p:nvSpPr>
          <p:cNvPr id="56" name="正方形/長方形 4"/>
          <p:cNvSpPr/>
          <p:nvPr/>
        </p:nvSpPr>
        <p:spPr>
          <a:xfrm>
            <a:off x="5438880" y="32097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登録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正方形/長方形 10"/>
          <p:cNvSpPr/>
          <p:nvPr/>
        </p:nvSpPr>
        <p:spPr>
          <a:xfrm>
            <a:off x="5288040" y="65469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B190-44A1-4662-B206-1739C10A7E7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登録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をブロックする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３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入力して「送信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追加メッセージを表示（図４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2640" y="3801960"/>
            <a:ext cx="3505320" cy="239076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1"/>
          <p:cNvSpPr/>
          <p:nvPr/>
        </p:nvSpPr>
        <p:spPr>
          <a:xfrm>
            <a:off x="6942960" y="67626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一覧画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正方形/長方形 2"/>
          <p:cNvSpPr/>
          <p:nvPr/>
        </p:nvSpPr>
        <p:spPr>
          <a:xfrm>
            <a:off x="511200" y="647388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追加メッセージを表示した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図 1" descr=""/>
          <p:cNvPicPr/>
          <p:nvPr/>
        </p:nvPicPr>
        <p:blipFill>
          <a:blip r:embed="rId2"/>
          <a:stretch/>
        </p:blipFill>
        <p:spPr>
          <a:xfrm>
            <a:off x="4643280" y="1290600"/>
            <a:ext cx="5486400" cy="524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578560" y="1866960"/>
            <a:ext cx="3168720" cy="86364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図 9" descr=""/>
          <p:cNvPicPr/>
          <p:nvPr/>
        </p:nvPicPr>
        <p:blipFill>
          <a:blip r:embed="rId1"/>
          <a:stretch/>
        </p:blipFill>
        <p:spPr>
          <a:xfrm>
            <a:off x="4862520" y="1851120"/>
            <a:ext cx="4824360" cy="4613040"/>
          </a:xfrm>
          <a:prstGeom prst="rect">
            <a:avLst/>
          </a:prstGeom>
          <a:ln w="0">
            <a:noFill/>
          </a:ln>
        </p:spPr>
      </p:pic>
      <p:sp>
        <p:nvSpPr>
          <p:cNvPr id="6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10F6-9B01-4D29-B39A-F4F05090111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一覧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830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たメンバーを表示（図５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０件のページャ表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要素を記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プロフィール画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ニックネー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1320" y="142092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654520" y="2946240"/>
            <a:ext cx="2953080" cy="35895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正方形/長方形 7"/>
          <p:cNvSpPr/>
          <p:nvPr/>
        </p:nvSpPr>
        <p:spPr>
          <a:xfrm>
            <a:off x="5295960" y="653580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図 2" descr=""/>
          <p:cNvPicPr/>
          <p:nvPr/>
        </p:nvPicPr>
        <p:blipFill>
          <a:blip r:embed="rId1"/>
          <a:stretch/>
        </p:blipFill>
        <p:spPr>
          <a:xfrm>
            <a:off x="4325760" y="2462040"/>
            <a:ext cx="49294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図 1" descr=""/>
          <p:cNvPicPr/>
          <p:nvPr/>
        </p:nvPicPr>
        <p:blipFill>
          <a:blip r:embed="rId2"/>
          <a:stretch/>
        </p:blipFill>
        <p:spPr>
          <a:xfrm>
            <a:off x="4321080" y="887400"/>
            <a:ext cx="5305680" cy="1333440"/>
          </a:xfrm>
          <a:prstGeom prst="rect">
            <a:avLst/>
          </a:prstGeom>
          <a:ln w="0">
            <a:noFill/>
          </a:ln>
        </p:spPr>
      </p:pic>
      <p:sp>
        <p:nvSpPr>
          <p:cNvPr id="76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A688-D322-4F7B-93B7-F9CBA1AC3F7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てい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（図６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６上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削除リンク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確認画面へ遷移（図６中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「削除する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メッセージを表示（図６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462880" y="1433520"/>
            <a:ext cx="720720" cy="3603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540480" y="3603600"/>
            <a:ext cx="755640" cy="28908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正方形/長方形 10"/>
          <p:cNvSpPr/>
          <p:nvPr/>
        </p:nvSpPr>
        <p:spPr>
          <a:xfrm>
            <a:off x="4070520" y="6769080"/>
            <a:ext cx="62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: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したメンバーに対するアクセスブロックの登録を削除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図 3" descr=""/>
          <p:cNvPicPr/>
          <p:nvPr/>
        </p:nvPicPr>
        <p:blipFill>
          <a:blip r:embed="rId3"/>
          <a:stretch/>
        </p:blipFill>
        <p:spPr>
          <a:xfrm>
            <a:off x="4336920" y="4346640"/>
            <a:ext cx="49071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yuya</cp:lastModifiedBy>
  <dcterms:modified xsi:type="dcterms:W3CDTF">2011-05-09T08:02:02Z</dcterms:modified>
  <cp:revision>14</cp:revision>
  <dc:subject/>
  <dc:title>PowerPoint Presentation</dc:title>
</cp:coreProperties>
</file>