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6CB-80E4-4576-A376-DEB0C05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B38-C7F3-4C1C-91DF-B50FFF8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98F-74BB-4520-A26D-29DED91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622-2B83-47A6-893E-6405F706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31E-EE04-491F-9887-5930A69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DC7-2B7D-4590-BEF9-9F235755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032-B025-4831-A6AF-43AAB67D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8E2-6ADD-4A88-9ACC-A7B85A09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C45-77CA-431B-93CE-C68F65FF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660-0498-4B84-80D8-A2ABD34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FA4-CBBD-49CF-9164-EB78F6FF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DEE-2E3D-42AE-A5C0-1C1BC2E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7D3AD-82D6-47A3-A1A2-F40CC777B85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6EE4C-841E-40EE-A4A0-25DD029E49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ーブルゲーム会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仮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企画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12680"/>
            <a:ext cx="822960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無料で自由な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ソーシャルゲームプラットフォー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12680"/>
            <a:ext cx="822960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お金がかからず遊べ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12680"/>
            <a:ext cx="822960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ゲームルールは不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12680"/>
            <a:ext cx="8229600" cy="20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Social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のアプリ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しか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SS)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なので、社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S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とか自分の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S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でも対戦でき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図 12" descr=""/>
          <p:cNvPicPr/>
          <p:nvPr/>
        </p:nvPicPr>
        <p:blipFill>
          <a:blip r:embed="rId1"/>
          <a:stretch/>
        </p:blipFill>
        <p:spPr>
          <a:xfrm>
            <a:off x="6383160" y="1976400"/>
            <a:ext cx="2021040" cy="2730600"/>
          </a:xfrm>
          <a:prstGeom prst="rect">
            <a:avLst/>
          </a:prstGeom>
          <a:ln w="0">
            <a:noFill/>
          </a:ln>
        </p:spPr>
      </p:pic>
      <p:pic>
        <p:nvPicPr>
          <p:cNvPr id="48" name="図 10" descr=""/>
          <p:cNvPicPr/>
          <p:nvPr/>
        </p:nvPicPr>
        <p:blipFill>
          <a:blip r:embed="rId2"/>
          <a:stretch/>
        </p:blipFill>
        <p:spPr>
          <a:xfrm>
            <a:off x="3581280" y="1976400"/>
            <a:ext cx="2019600" cy="2730600"/>
          </a:xfrm>
          <a:prstGeom prst="rect">
            <a:avLst/>
          </a:prstGeom>
          <a:ln w="0">
            <a:noFill/>
          </a:ln>
        </p:spPr>
      </p:pic>
      <p:pic>
        <p:nvPicPr>
          <p:cNvPr id="49" name="図 3" descr=""/>
          <p:cNvPicPr/>
          <p:nvPr/>
        </p:nvPicPr>
        <p:blipFill>
          <a:blip r:embed="rId3"/>
          <a:stretch/>
        </p:blipFill>
        <p:spPr>
          <a:xfrm>
            <a:off x="771480" y="1976400"/>
            <a:ext cx="2021040" cy="2730600"/>
          </a:xfrm>
          <a:prstGeom prst="rect">
            <a:avLst/>
          </a:prstGeom>
          <a:ln w="0">
            <a:noFill/>
          </a:ln>
        </p:spPr>
      </p:pic>
      <p:pic>
        <p:nvPicPr>
          <p:cNvPr id="50" name="図 4" descr=""/>
          <p:cNvPicPr/>
          <p:nvPr/>
        </p:nvPicPr>
        <p:blipFill>
          <a:blip r:embed="rId4"/>
          <a:stretch/>
        </p:blipFill>
        <p:spPr>
          <a:xfrm>
            <a:off x="6443640" y="2370240"/>
            <a:ext cx="194796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図 5" descr=""/>
          <p:cNvPicPr/>
          <p:nvPr/>
        </p:nvPicPr>
        <p:blipFill>
          <a:blip r:embed="rId5"/>
          <a:stretch/>
        </p:blipFill>
        <p:spPr>
          <a:xfrm>
            <a:off x="893880" y="2432160"/>
            <a:ext cx="180972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図 6" descr=""/>
          <p:cNvPicPr/>
          <p:nvPr/>
        </p:nvPicPr>
        <p:blipFill>
          <a:blip r:embed="rId6"/>
          <a:stretch/>
        </p:blipFill>
        <p:spPr>
          <a:xfrm>
            <a:off x="3592440" y="2432160"/>
            <a:ext cx="2008440" cy="2038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テーブルゲーム対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8"/>
          <p:cNvSpPr/>
          <p:nvPr/>
        </p:nvSpPr>
        <p:spPr>
          <a:xfrm>
            <a:off x="1714680" y="525132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神経衰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将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リバー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◯☓ /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んけ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図 7" descr=""/>
          <p:cNvPicPr/>
          <p:nvPr/>
        </p:nvPicPr>
        <p:blipFill>
          <a:blip r:embed="rId1"/>
          <a:stretch/>
        </p:blipFill>
        <p:spPr>
          <a:xfrm>
            <a:off x="3048120" y="1627200"/>
            <a:ext cx="3181320" cy="455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対戦履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0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年つづく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ゲームコミュニテ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7:43:56Z</dcterms:created>
  <dc:creator>Kunitada Ryosuke</dc:creator>
  <dc:description/>
  <dc:language>en-US</dc:language>
  <cp:lastModifiedBy>Kunitada Ryosuke</cp:lastModifiedBy>
  <dcterms:modified xsi:type="dcterms:W3CDTF">2011-06-29T18:04:47Z</dcterms:modified>
  <cp:revision>4</cp:revision>
  <dc:subject/>
  <dc:title>テーブルゲーム会館</dc:title>
</cp:coreProperties>
</file>