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2"/>
          </p:nvPr>
        </p:nvSpPr>
        <p:spPr>
          <a:xfrm>
            <a:off x="3819600" y="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4"/>
          </p:nvPr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3367E24-6C85-4E01-8C34-B29E52678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6451B69-2F4C-44C6-9BA1-A59D0FE0C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ABE87029-5631-454D-8235-52786A7FB8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3C6615D-99F7-450E-85CD-41CBC5589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19600" y="9375840"/>
            <a:ext cx="2921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54BAC20E-190D-4B42-BC15-3F1F3DD34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5600" cy="3702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D83A4-51D9-4EE8-ABDC-F3DB8B87E0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CFA61-B442-4EE3-9892-F83FC36D8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56A9D-3EC2-4F9E-98FE-75B1DDD95E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FE6C-40A8-4524-9BD6-4F91E65918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19596-E3F7-4D3B-B9C5-FEAD7E2B16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97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44120" y="100944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53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97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44120" y="3825720"/>
            <a:ext cx="27561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2489-0E84-4626-BE97-0DAA0CB8DF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A6D9-3622-479D-B0CC-7BB46F7C5A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52E0-10CF-4B3C-A6FB-FABAB0BEDF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6760" y="75960"/>
            <a:ext cx="835812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926C8-7AE3-4B74-B3AB-755B58CE0C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37706-8A64-4E96-9EC2-FDE04403C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41560" y="382572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7285D-13EE-4701-A2D6-C09B857BFD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6760" y="51840"/>
            <a:ext cx="8358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1560" y="1009440"/>
            <a:ext cx="41770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825720"/>
            <a:ext cx="855972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4DB36-92EF-4D50-9996-7E0898EE6A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  <p:pic>
        <p:nvPicPr>
          <p:cNvPr id="2" name="Picture 7" descr=""/>
          <p:cNvPicPr/>
          <p:nvPr/>
        </p:nvPicPr>
        <p:blipFill>
          <a:blip r:embed="rId2"/>
          <a:stretch/>
        </p:blipFill>
        <p:spPr>
          <a:xfrm>
            <a:off x="8072280" y="763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39"/>
          <p:cNvSpPr/>
          <p:nvPr/>
        </p:nvSpPr>
        <p:spPr>
          <a:xfrm>
            <a:off x="0" y="6546960"/>
            <a:ext cx="9144000" cy="31104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543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68A4E318-025A-4511-8A2B-9EE0C9C4E277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3"/>
          <p:cNvSpPr/>
          <p:nvPr/>
        </p:nvSpPr>
        <p:spPr>
          <a:xfrm>
            <a:off x="0" y="660636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02-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4" descr="meishi_ura_yoko"/>
          <p:cNvPicPr/>
          <p:nvPr/>
        </p:nvPicPr>
        <p:blipFill>
          <a:blip r:embed="rId3"/>
          <a:stretch/>
        </p:blipFill>
        <p:spPr>
          <a:xfrm>
            <a:off x="8458200" y="6553080"/>
            <a:ext cx="609480" cy="304920"/>
          </a:xfrm>
          <a:prstGeom prst="rect">
            <a:avLst/>
          </a:prstGeom>
          <a:ln w="0">
            <a:noFill/>
          </a:ln>
        </p:spPr>
      </p:pic>
      <p:sp>
        <p:nvSpPr>
          <p:cNvPr id="7" name="Line 10"/>
          <p:cNvSpPr/>
          <p:nvPr/>
        </p:nvSpPr>
        <p:spPr>
          <a:xfrm>
            <a:off x="380880" y="609480"/>
            <a:ext cx="7620120" cy="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9"/>
          <p:cNvSpPr/>
          <p:nvPr/>
        </p:nvSpPr>
        <p:spPr>
          <a:xfrm>
            <a:off x="0" y="6429240"/>
            <a:ext cx="9144000" cy="428760"/>
          </a:xfrm>
          <a:prstGeom prst="rect">
            <a:avLst/>
          </a:prstGeom>
          <a:solidFill>
            <a:srgbClr val="0061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meishi_ura_yoko"/>
          <p:cNvPicPr/>
          <p:nvPr/>
        </p:nvPicPr>
        <p:blipFill>
          <a:blip r:embed="rId2"/>
          <a:stretch/>
        </p:blipFill>
        <p:spPr>
          <a:xfrm>
            <a:off x="8458200" y="6523200"/>
            <a:ext cx="609480" cy="325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3"/>
          <p:cNvSpPr/>
          <p:nvPr/>
        </p:nvSpPr>
        <p:spPr>
          <a:xfrm>
            <a:off x="0" y="6612840"/>
            <a:ext cx="70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株式会社手嶋屋： </a:t>
            </a:r>
            <a:r>
              <a:rPr b="0" lang="en-US" sz="1000" spc="-1" strike="noStrike">
                <a:solidFill>
                  <a:srgbClr val="ffffff"/>
                </a:solidFill>
                <a:latin typeface="Tahoma"/>
                <a:ea typeface="HGP創英角ｺﾞｼｯｸUB"/>
              </a:rPr>
              <a:t>http://www.tejimaya.com                                (c) 2010. Tejimaya Inc. All Rights Reserved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2" descr=""/>
          <p:cNvPicPr/>
          <p:nvPr/>
        </p:nvPicPr>
        <p:blipFill>
          <a:blip r:embed="rId3"/>
          <a:stretch/>
        </p:blipFill>
        <p:spPr>
          <a:xfrm>
            <a:off x="0" y="847800"/>
            <a:ext cx="6153120" cy="55814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"/>
          <p:cNvPicPr/>
          <p:nvPr/>
        </p:nvPicPr>
        <p:blipFill>
          <a:blip r:embed="rId4"/>
          <a:stretch/>
        </p:blipFill>
        <p:spPr>
          <a:xfrm>
            <a:off x="8072280" y="142920"/>
            <a:ext cx="928800" cy="696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55320" y="1009440"/>
            <a:ext cx="85597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HG創英角ｺﾞｼｯｸUB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G創英角ｺﾞｼｯｸUB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G創英角ｺﾞｼｯｸUB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76920" y="1905120"/>
            <a:ext cx="4038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アクセスブロック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【</a:t>
            </a: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改善版</a:t>
            </a:r>
            <a:r>
              <a:rPr b="0" lang="en-US" sz="2600" spc="-1" strike="noStrike">
                <a:solidFill>
                  <a:srgbClr val="000000"/>
                </a:solidFill>
                <a:latin typeface="HGP創英角ｺﾞｼｯｸUB"/>
              </a:rPr>
              <a:t>】</a:t>
            </a:r>
            <a:br>
              <a:rPr sz="2600"/>
            </a:b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</a:rPr>
              <a:t>仕様書</a:t>
            </a:r>
            <a:endParaRPr b="0" lang="en-US" sz="2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7929720" y="142920"/>
            <a:ext cx="1071360" cy="803160"/>
          </a:xfrm>
          <a:prstGeom prst="rect">
            <a:avLst/>
          </a:prstGeom>
          <a:ln w="0">
            <a:noFill/>
          </a:ln>
        </p:spPr>
      </p:pic>
      <p:sp>
        <p:nvSpPr>
          <p:cNvPr id="96" name="テキスト ボックス 5"/>
          <p:cNvSpPr/>
          <p:nvPr/>
        </p:nvSpPr>
        <p:spPr>
          <a:xfrm>
            <a:off x="7175160" y="5470560"/>
            <a:ext cx="1600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01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28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株式会社手嶋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線コネクタ 9"/>
          <p:cNvSpPr/>
          <p:nvPr/>
        </p:nvSpPr>
        <p:spPr>
          <a:xfrm>
            <a:off x="4876920" y="2819520"/>
            <a:ext cx="403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97F0D9A3-1991-45D4-A53C-FAA3C86C5AB4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04920" y="914400"/>
            <a:ext cx="8458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本資料は、以下を目的と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アクセスブロック機能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改善版</a:t>
            </a: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仕様を提示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本資料の目的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EC42D450-FC04-43DB-98A4-DBDC598E38B8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メンバーを一覧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各行に下記の内容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ニックネーム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リンク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遷移先：フレンドトップページ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リン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「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ジロ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[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削除す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]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10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件ずつのページャ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表示順は登録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relationship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member_id_to 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昇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その他の表示上の仕様は、メンバー検索結果ページの仕様に従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入力して登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既存のフォームを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・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追加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入力値をエラーとする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メッセージ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空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必須項目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正しくありません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自分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退会したか、存在しない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登録済みの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 →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既に登録済みの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です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時は値を引き継ぎ、テキストボックス内に表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表示・登録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4" name="図 6" descr=""/>
          <p:cNvPicPr/>
          <p:nvPr/>
        </p:nvPicPr>
        <p:blipFill>
          <a:blip r:embed="rId1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 4"/>
          <p:cNvSpPr/>
          <p:nvPr/>
        </p:nvSpPr>
        <p:spPr>
          <a:xfrm>
            <a:off x="769608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PAGE</a:t>
            </a:r>
            <a:fld id="{08F3A101-8FEE-45B7-9276-A7F580933904}" type="slidenum">
              <a:rPr b="0" lang="en-US" sz="1000" spc="-1" strike="noStrike">
                <a:solidFill>
                  <a:srgbClr val="ffffff"/>
                </a:solidFill>
                <a:latin typeface="HGPｺﾞｼｯｸE"/>
                <a:ea typeface="HGPｺﾞｼｯｸ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304920" y="609480"/>
            <a:ext cx="6324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一覧表示内のリンクを押下することで削除確認画面へ遷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確認画面の表示は下図参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対象メンバーのニックネームと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を表示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削除確認画面で「削除する」を押下することで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画面は実装し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完了メッセージを表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例：「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ﾒﾝﾊﾞｰ</a:t>
            </a:r>
            <a:r>
              <a:rPr b="0" lang="en-US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ID:35</a:t>
            </a:r>
            <a:r>
              <a:rPr b="0" lang="ja-JP" sz="12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を削除しました。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下記値が送信された場合はエラー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然数以外の文字列・空文字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自分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存在しない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未登録のメンバー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429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エラーの場合は下記画面を表示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ステータスコード：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4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001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ヒラギノ角ゴ ProN W3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6760" y="75960"/>
            <a:ext cx="83581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P創英角ｺﾞｼｯｸUB"/>
              </a:rPr>
              <a:t>機能概要（削除）</a:t>
            </a:r>
            <a:endParaRPr b="0" lang="en-US" sz="2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pic>
        <p:nvPicPr>
          <p:cNvPr id="108" name="図 7" descr="スクリーンショット（2011-02-01 14.10.20）.png"/>
          <p:cNvPicPr/>
          <p:nvPr/>
        </p:nvPicPr>
        <p:blipFill>
          <a:blip r:embed="rId1"/>
          <a:stretch/>
        </p:blipFill>
        <p:spPr>
          <a:xfrm>
            <a:off x="1066680" y="5486400"/>
            <a:ext cx="3238560" cy="876240"/>
          </a:xfrm>
          <a:prstGeom prst="rect">
            <a:avLst/>
          </a:prstGeom>
          <a:ln w="0">
            <a:noFill/>
          </a:ln>
        </p:spPr>
      </p:pic>
      <p:pic>
        <p:nvPicPr>
          <p:cNvPr id="109" name="図 4" descr=""/>
          <p:cNvPicPr/>
          <p:nvPr/>
        </p:nvPicPr>
        <p:blipFill>
          <a:blip r:embed="rId2"/>
          <a:stretch/>
        </p:blipFill>
        <p:spPr>
          <a:xfrm>
            <a:off x="1547640" y="1515960"/>
            <a:ext cx="2400480" cy="1552680"/>
          </a:xfrm>
          <a:prstGeom prst="rect">
            <a:avLst/>
          </a:prstGeom>
          <a:ln w="0">
            <a:noFill/>
          </a:ln>
        </p:spPr>
      </p:pic>
      <p:pic>
        <p:nvPicPr>
          <p:cNvPr id="110" name="図 1" descr=""/>
          <p:cNvPicPr/>
          <p:nvPr/>
        </p:nvPicPr>
        <p:blipFill>
          <a:blip r:embed="rId3"/>
          <a:stretch/>
        </p:blipFill>
        <p:spPr>
          <a:xfrm>
            <a:off x="6235560" y="905040"/>
            <a:ext cx="1865520" cy="54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10:10:54Z</dcterms:created>
  <dc:creator>手嶋屋</dc:creator>
  <dc:description/>
  <dc:language>en-US</dc:language>
  <cp:lastModifiedBy>yuya</cp:lastModifiedBy>
  <dcterms:modified xsi:type="dcterms:W3CDTF">2011-05-09T08:27:44Z</dcterms:modified>
  <cp:revision>1682</cp:revision>
  <dc:subject/>
  <dc:title>スライド 1</dc:title>
</cp:coreProperties>
</file>