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960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A5A098-1850-4608-8092-0639FB311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AB0969-42A2-4761-A8EA-6964B51A8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EEF38E-66CE-4059-A2E1-2F294E517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034850B-F7E3-4484-9A5F-0607937A2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0527F0-55DA-445B-B235-503537E6C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037E-92BE-436F-8503-7C377B38C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7D81-7F49-45A4-93DC-D4B1DF8F6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D534-C196-477C-9AE2-D435CD5E5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A061-6EC4-408F-821A-96DF1A247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1EB3-6874-443C-AE46-C4CF01696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7C0F-3429-479A-84FF-3B64E9B97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FAE4-DEFD-4FCB-8DDF-7E2BEE4AF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74C6-29E1-4837-B56D-093A9D2A6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90DF-9B4F-4382-A88F-654224A9D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C5D9-7704-42FC-8FAA-70A7874A6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78EB-B62A-47AF-A459-66E785890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4E50-AD19-481E-A333-7FEBB40C6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8072280" y="763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9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43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715347BB-EF7F-4904-8294-7BCBB7F49183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3"/>
          <p:cNvSpPr/>
          <p:nvPr/>
        </p:nvSpPr>
        <p:spPr>
          <a:xfrm>
            <a:off x="0" y="660636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02-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meishi_ura_yoko"/>
          <p:cNvPicPr/>
          <p:nvPr/>
        </p:nvPicPr>
        <p:blipFill>
          <a:blip r:embed="rId3"/>
          <a:stretch/>
        </p:blipFill>
        <p:spPr>
          <a:xfrm>
            <a:off x="8458200" y="655308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380880" y="609480"/>
            <a:ext cx="76201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9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eishi_ura_yoko"/>
          <p:cNvPicPr/>
          <p:nvPr/>
        </p:nvPicPr>
        <p:blipFill>
          <a:blip r:embed="rId2"/>
          <a:stretch/>
        </p:blipFill>
        <p:spPr>
          <a:xfrm>
            <a:off x="8458200" y="6523200"/>
            <a:ext cx="609480" cy="32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3"/>
          <p:cNvSpPr/>
          <p:nvPr/>
        </p:nvSpPr>
        <p:spPr>
          <a:xfrm>
            <a:off x="0" y="6612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10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2" descr=""/>
          <p:cNvPicPr/>
          <p:nvPr/>
        </p:nvPicPr>
        <p:blipFill>
          <a:blip r:embed="rId3"/>
          <a:stretch/>
        </p:blipFill>
        <p:spPr>
          <a:xfrm>
            <a:off x="0" y="847800"/>
            <a:ext cx="6153120" cy="55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8072280" y="1429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920" y="19051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アクセスブロック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【</a:t>
            </a: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改善版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】</a:t>
            </a:r>
            <a:br>
              <a:rPr sz="2600"/>
            </a:b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仕様書</a:t>
            </a:r>
            <a:endParaRPr b="0" lang="en-US" sz="2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7929720" y="142920"/>
            <a:ext cx="1071360" cy="80316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5"/>
          <p:cNvSpPr/>
          <p:nvPr/>
        </p:nvSpPr>
        <p:spPr>
          <a:xfrm>
            <a:off x="7175160" y="5470560"/>
            <a:ext cx="1600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8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株式会社手嶋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9"/>
          <p:cNvSpPr/>
          <p:nvPr/>
        </p:nvSpPr>
        <p:spPr>
          <a:xfrm>
            <a:off x="487692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91E62682-C673-4DFD-85D6-0C9D91F10F85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144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本資料は、以下を目的と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アクセスブロック機能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改善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仕様を提示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本資料の目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B5CA31B2-0972-4F27-8746-8719C49F2C04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メンバーを一覧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行に下記の内容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ニックネーム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リンク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遷移先：フレンドトップページ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リン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ジロ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す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件ずつのページャ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順は登録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relationship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id_to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昇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他の表示上の仕様は、メンバー検索結果ページの仕様に従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入力して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のフォーム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・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追加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入力値をエラーとする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メッセージ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空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必須項目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正しくありません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自分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退会したか、存在しない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登録済み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時は値を引き継ぎ、テキストボックス内に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表示・登録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4" name="図 6" descr=""/>
          <p:cNvPicPr/>
          <p:nvPr/>
        </p:nvPicPr>
        <p:blipFill>
          <a:blip r:embed="rId1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9E4AE90D-4877-4695-8BE6-0E293F3E1D36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覧表示内のリンクを押下することで削除確認画面へ遷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画面の表示は下図参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対象メンバーのニックネームと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確認画面で「削除する」を押下することで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削除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値が送信された場合はエラー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・空文字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未登録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の場合は下記画面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タスコード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削除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8" name="図 7" descr="スクリーンショット（2011-02-01 14.10.20）.png"/>
          <p:cNvPicPr/>
          <p:nvPr/>
        </p:nvPicPr>
        <p:blipFill>
          <a:blip r:embed="rId1"/>
          <a:stretch/>
        </p:blipFill>
        <p:spPr>
          <a:xfrm>
            <a:off x="1066680" y="5486400"/>
            <a:ext cx="323856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図 4" descr=""/>
          <p:cNvPicPr/>
          <p:nvPr/>
        </p:nvPicPr>
        <p:blipFill>
          <a:blip r:embed="rId2"/>
          <a:stretch/>
        </p:blipFill>
        <p:spPr>
          <a:xfrm>
            <a:off x="1547640" y="1515960"/>
            <a:ext cx="2400480" cy="1552680"/>
          </a:xfrm>
          <a:prstGeom prst="rect">
            <a:avLst/>
          </a:prstGeom>
          <a:ln w="0">
            <a:noFill/>
          </a:ln>
        </p:spPr>
      </p:pic>
      <p:pic>
        <p:nvPicPr>
          <p:cNvPr id="110" name="図 1" descr=""/>
          <p:cNvPicPr/>
          <p:nvPr/>
        </p:nvPicPr>
        <p:blipFill>
          <a:blip r:embed="rId3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10:54Z</dcterms:created>
  <dc:creator>手嶋屋</dc:creator>
  <dc:description/>
  <dc:language>en-US</dc:language>
  <cp:lastModifiedBy>yuya</cp:lastModifiedBy>
  <dcterms:modified xsi:type="dcterms:W3CDTF">2011-05-09T08:27:44Z</dcterms:modified>
  <cp:revision>1682</cp:revision>
  <dc:subject/>
  <dc:title>スライド 1</dc:title>
</cp:coreProperties>
</file>