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5351-8482-4278-913D-BD26D2BA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28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587120"/>
            <a:ext cx="86328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D225-A8CA-4E49-B2CE-1A04180B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5800" y="219996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58712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5800" y="458712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F42-1FB1-4B51-A50D-A04EB12D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27795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000" y="2199960"/>
            <a:ext cx="27795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9880" y="2199960"/>
            <a:ext cx="27795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587120"/>
            <a:ext cx="27795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000" y="4587120"/>
            <a:ext cx="27795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9880" y="4587120"/>
            <a:ext cx="27795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1F67-24DF-493A-AF52-41CA0C76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99960"/>
            <a:ext cx="86328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5126-1A30-41DB-9426-D2A9FD94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280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FBE-04F7-4D35-8405-D9164427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421272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5800" y="2199960"/>
            <a:ext cx="421272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6473-6EAA-441E-9837-A26F452E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CD26-C48E-487C-B89C-477CED13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595440"/>
            <a:ext cx="86328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D2C1-6F1A-460C-BFDF-3196351C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5800" y="2199960"/>
            <a:ext cx="421272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58712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508-313E-4410-9E26-F2345EE7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421272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5800" y="219996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5800" y="458712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CE8-B886-4823-A8BF-95132A82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5800" y="219996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587120"/>
            <a:ext cx="86328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7C09-D175-4409-90CB-6A59E80B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99960"/>
            <a:ext cx="863280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942240"/>
            <a:ext cx="211428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400" y="6942240"/>
            <a:ext cx="321624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0280" y="6942240"/>
            <a:ext cx="211608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42BF9-D262-4122-8C05-97C3AB7FBFC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367000"/>
            <a:ext cx="863424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アクセスブロック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C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版仕様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520" y="4319640"/>
            <a:ext cx="7110360" cy="19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スライド番号プレースホルダー 5"/>
          <p:cNvSpPr/>
          <p:nvPr/>
        </p:nvSpPr>
        <p:spPr>
          <a:xfrm>
            <a:off x="7280280" y="6942240"/>
            <a:ext cx="21160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6F485-24C6-4B93-AE9C-87FD32FF51B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本資料の目的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本資料は、以下を目的とす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アクセスブロック機能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C</a:t>
            </a:r>
            <a:r>
              <a:rPr b="0" lang="ja-JP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版の仕様を提示す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スライド番号プレースホルダー 6"/>
          <p:cNvSpPr/>
          <p:nvPr/>
        </p:nvSpPr>
        <p:spPr>
          <a:xfrm>
            <a:off x="7280280" y="6942240"/>
            <a:ext cx="21160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B8752-8F12-415E-903A-B0A97276E3D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既存の機能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0320" y="15066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登録機能（図１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アクセスをブロックす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登録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問題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何をすれば登録できるかがわからな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改善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アクセスブロックの名称を変え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一覧機能（図２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アクセスをブロックし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表示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問題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どれを登録したのかわからな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送信を押下するたびに入力欄が増え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どれを失敗したかがわからな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改善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登録を一つずつ行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失敗した理由を表示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削除機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アクセスをブロックし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削除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問題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削除する方法がわからな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正しく削除されたかわからな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そもそも削除機能に該当する機能がな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807080" y="1650960"/>
            <a:ext cx="5040360" cy="1346400"/>
          </a:xfrm>
          <a:prstGeom prst="rect">
            <a:avLst/>
          </a:prstGeom>
          <a:ln w="0">
            <a:noFill/>
          </a:ln>
        </p:spPr>
      </p:pic>
      <p:pic>
        <p:nvPicPr>
          <p:cNvPr id="55" name="図 1" descr=""/>
          <p:cNvPicPr/>
          <p:nvPr/>
        </p:nvPicPr>
        <p:blipFill>
          <a:blip r:embed="rId2"/>
          <a:stretch/>
        </p:blipFill>
        <p:spPr>
          <a:xfrm>
            <a:off x="4937040" y="3882960"/>
            <a:ext cx="4780080" cy="2519280"/>
          </a:xfrm>
          <a:prstGeom prst="rect">
            <a:avLst/>
          </a:prstGeom>
          <a:ln w="0">
            <a:noFill/>
          </a:ln>
        </p:spPr>
      </p:pic>
      <p:sp>
        <p:nvSpPr>
          <p:cNvPr id="56" name="正方形/長方形 4"/>
          <p:cNvSpPr/>
          <p:nvPr/>
        </p:nvSpPr>
        <p:spPr>
          <a:xfrm>
            <a:off x="5438880" y="3209760"/>
            <a:ext cx="40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既存のアクセスブロック登録画面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正方形/長方形 10"/>
          <p:cNvSpPr/>
          <p:nvPr/>
        </p:nvSpPr>
        <p:spPr>
          <a:xfrm>
            <a:off x="5288040" y="6546960"/>
            <a:ext cx="40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: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既存のアクセスブロック一覧画面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スライド番号プレースホルダー 6"/>
          <p:cNvSpPr/>
          <p:nvPr/>
        </p:nvSpPr>
        <p:spPr>
          <a:xfrm>
            <a:off x="7280280" y="6942240"/>
            <a:ext cx="21160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67179-B9E3-4340-A3AE-02ED000DE83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登録機能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アクセスをブロックするメンバ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登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下記の動作を行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アクセスブロック一覧画面（図３参照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ンバ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入力して「送信」ボタンを押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追加メッセージを表示（図４参照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782640" y="3801960"/>
            <a:ext cx="3505320" cy="2390760"/>
          </a:xfrm>
          <a:prstGeom prst="rect">
            <a:avLst/>
          </a:prstGeom>
          <a:ln w="0">
            <a:noFill/>
          </a:ln>
        </p:spPr>
      </p:pic>
      <p:sp>
        <p:nvSpPr>
          <p:cNvPr id="63" name="正方形/長方形 1"/>
          <p:cNvSpPr/>
          <p:nvPr/>
        </p:nvSpPr>
        <p:spPr>
          <a:xfrm>
            <a:off x="6942960" y="676260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アクセスブロック一覧画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正方形/長方形 2"/>
          <p:cNvSpPr/>
          <p:nvPr/>
        </p:nvSpPr>
        <p:spPr>
          <a:xfrm>
            <a:off x="511200" y="6473880"/>
            <a:ext cx="43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4: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追加メッセージを表示した一覧画面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図 1" descr=""/>
          <p:cNvPicPr/>
          <p:nvPr/>
        </p:nvPicPr>
        <p:blipFill>
          <a:blip r:embed="rId2"/>
          <a:stretch/>
        </p:blipFill>
        <p:spPr>
          <a:xfrm>
            <a:off x="4643280" y="1290600"/>
            <a:ext cx="5486400" cy="5245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5578560" y="1866960"/>
            <a:ext cx="3168720" cy="863640"/>
          </a:xfrm>
          <a:prstGeom prst="rect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図 9" descr=""/>
          <p:cNvPicPr/>
          <p:nvPr/>
        </p:nvPicPr>
        <p:blipFill>
          <a:blip r:embed="rId1"/>
          <a:stretch/>
        </p:blipFill>
        <p:spPr>
          <a:xfrm>
            <a:off x="4862520" y="1851120"/>
            <a:ext cx="4824360" cy="4613040"/>
          </a:xfrm>
          <a:prstGeom prst="rect">
            <a:avLst/>
          </a:prstGeom>
          <a:ln w="0">
            <a:noFill/>
          </a:ln>
        </p:spPr>
      </p:pic>
      <p:sp>
        <p:nvSpPr>
          <p:cNvPr id="68" name="スライド番号プレースホルダー 6"/>
          <p:cNvSpPr/>
          <p:nvPr/>
        </p:nvSpPr>
        <p:spPr>
          <a:xfrm>
            <a:off x="7280280" y="6942240"/>
            <a:ext cx="21160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71B15-6B20-4E95-B8C6-04163678A03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一覧機能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830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アクセスブロックを登録したメンバーを表示（図５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０件のページャ表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下記の要素を記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プロフィール画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ニックネー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メンバ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削除リン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51320" y="1420920"/>
            <a:ext cx="45849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5654520" y="2946240"/>
            <a:ext cx="2953080" cy="3589560"/>
          </a:xfrm>
          <a:prstGeom prst="rect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正方形/長方形 7"/>
          <p:cNvSpPr/>
          <p:nvPr/>
        </p:nvSpPr>
        <p:spPr>
          <a:xfrm>
            <a:off x="5295960" y="6535800"/>
            <a:ext cx="40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: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既存のアクセスブロック一覧画面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図 2" descr=""/>
          <p:cNvPicPr/>
          <p:nvPr/>
        </p:nvPicPr>
        <p:blipFill>
          <a:blip r:embed="rId1"/>
          <a:stretch/>
        </p:blipFill>
        <p:spPr>
          <a:xfrm>
            <a:off x="4325760" y="2462040"/>
            <a:ext cx="4929480" cy="1752840"/>
          </a:xfrm>
          <a:prstGeom prst="rect">
            <a:avLst/>
          </a:prstGeom>
          <a:ln w="0">
            <a:noFill/>
          </a:ln>
        </p:spPr>
      </p:pic>
      <p:pic>
        <p:nvPicPr>
          <p:cNvPr id="75" name="図 1" descr=""/>
          <p:cNvPicPr/>
          <p:nvPr/>
        </p:nvPicPr>
        <p:blipFill>
          <a:blip r:embed="rId2"/>
          <a:stretch/>
        </p:blipFill>
        <p:spPr>
          <a:xfrm>
            <a:off x="4321080" y="887400"/>
            <a:ext cx="5305680" cy="1333440"/>
          </a:xfrm>
          <a:prstGeom prst="rect">
            <a:avLst/>
          </a:prstGeom>
          <a:ln w="0">
            <a:noFill/>
          </a:ln>
        </p:spPr>
      </p:pic>
      <p:sp>
        <p:nvSpPr>
          <p:cNvPr id="76" name="スライド番号プレースホルダー 6"/>
          <p:cNvSpPr/>
          <p:nvPr/>
        </p:nvSpPr>
        <p:spPr>
          <a:xfrm>
            <a:off x="7280280" y="6942240"/>
            <a:ext cx="21160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C71F1-F641-4521-BDFB-E657077AEB7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削除機能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アクセスブロックを登録している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削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下記の動作を行う（図６参照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アクセスブロック一覧画面（図６上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削除リンクを押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削除確認画面へ遷移（図６中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「削除する」ボタンを押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削除メッセージを表示（図６下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8462880" y="1433520"/>
            <a:ext cx="720720" cy="360360"/>
          </a:xfrm>
          <a:prstGeom prst="rect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6540480" y="3603600"/>
            <a:ext cx="755640" cy="289080"/>
          </a:xfrm>
          <a:prstGeom prst="rect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正方形/長方形 10"/>
          <p:cNvSpPr/>
          <p:nvPr/>
        </p:nvSpPr>
        <p:spPr>
          <a:xfrm>
            <a:off x="4070520" y="6769080"/>
            <a:ext cx="6295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6:</a:t>
            </a:r>
            <a:r>
              <a:rPr b="0" lang="ja-JP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指定したメンバーに対するアクセスブロックの登録を削除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図 3" descr=""/>
          <p:cNvPicPr/>
          <p:nvPr/>
        </p:nvPicPr>
        <p:blipFill>
          <a:blip r:embed="rId3"/>
          <a:stretch/>
        </p:blipFill>
        <p:spPr>
          <a:xfrm>
            <a:off x="4336920" y="4346640"/>
            <a:ext cx="4907160" cy="240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yuya</cp:lastModifiedBy>
  <dcterms:modified xsi:type="dcterms:W3CDTF">2011-05-09T08:02:02Z</dcterms:modified>
  <cp:revision>14</cp:revision>
  <dc:subject/>
  <dc:title>PowerPoint Presentation</dc:title>
</cp:coreProperties>
</file>