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7BFC-CAA8-4F3E-9873-F81F65806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2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587120"/>
            <a:ext cx="8632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3F6B-1952-4D7E-91CA-49B658FAB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58712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5800" y="458712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CA3-DBE6-47FE-966A-F4FEED7C4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000" y="219996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99880" y="219996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58712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000" y="458712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99880" y="4587120"/>
            <a:ext cx="277956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FFE-3AD1-4521-A006-9883EAD0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2199960"/>
            <a:ext cx="863280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AF94-C6FA-4177-B56D-38D21139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863280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5760-A014-456D-8331-080650C96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1B51-28E4-4DF8-9ACE-E2D8FCBD9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D9AC-3046-4C9F-BA65-2ACDC5A02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95440"/>
            <a:ext cx="863280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60C4-4BD2-446B-88D2-10E12472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58712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29F-9EFE-4D85-9E2E-621E6944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5800" y="458712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1475-8F83-442F-A50B-7C2E0DB0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5800" y="2199960"/>
            <a:ext cx="421272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587120"/>
            <a:ext cx="8632800" cy="21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6C06-8298-4068-B97E-4AA0151B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95440"/>
            <a:ext cx="86328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2199960"/>
            <a:ext cx="8632800" cy="45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942240"/>
            <a:ext cx="211428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400" y="6942240"/>
            <a:ext cx="321624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73BD9-EDDA-4CBC-B332-4258EA9B18BD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2367000"/>
            <a:ext cx="863424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アクセスブロック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C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版仕様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520" y="4319640"/>
            <a:ext cx="7110360" cy="194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ja-JP" sz="3200" spc="-1" strike="noStrike">
              <a:solidFill>
                <a:srgbClr val="000000"/>
              </a:solidFill>
              <a:latin typeface="Times New Roman"/>
              <a:ea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スライド番号プレースホルダー 5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C5A45-2ED8-4B91-93A6-13D71FB1FE3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本資料の目的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本資料は、以下を目的とす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アクセスブロック機能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C</a:t>
            </a:r>
            <a:r>
              <a:rPr b="0" lang="ja-JP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版の仕様を提示する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スライド番号プレースホルダー 6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45BC5F-3D4E-40DB-9319-B85213EDD07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既存の機能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0320" y="15066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登録機能（図１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をブロックす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登録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問題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何をすれば登録できるかが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改善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アクセスブロックの名称を変え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一覧機能（図２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をブロックし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表示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問題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どれを登録したのか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送信を押下するたびに入力欄が増え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どれを失敗したかが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改善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登録を一つずつ行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失敗した理由を表示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削除機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をブロックし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削除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問題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削除する方法が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正しく削除されたかわからない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・そもそも削除機能に該当する機能がな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807080" y="1650960"/>
            <a:ext cx="5040360" cy="1346400"/>
          </a:xfrm>
          <a:prstGeom prst="rect">
            <a:avLst/>
          </a:prstGeom>
          <a:ln w="0">
            <a:noFill/>
          </a:ln>
        </p:spPr>
      </p:pic>
      <p:pic>
        <p:nvPicPr>
          <p:cNvPr id="55" name="図 1" descr=""/>
          <p:cNvPicPr/>
          <p:nvPr/>
        </p:nvPicPr>
        <p:blipFill>
          <a:blip r:embed="rId2"/>
          <a:stretch/>
        </p:blipFill>
        <p:spPr>
          <a:xfrm>
            <a:off x="4937040" y="3882960"/>
            <a:ext cx="4780080" cy="2519280"/>
          </a:xfrm>
          <a:prstGeom prst="rect">
            <a:avLst/>
          </a:prstGeom>
          <a:ln w="0">
            <a:noFill/>
          </a:ln>
        </p:spPr>
      </p:pic>
      <p:sp>
        <p:nvSpPr>
          <p:cNvPr id="56" name="正方形/長方形 4"/>
          <p:cNvSpPr/>
          <p:nvPr/>
        </p:nvSpPr>
        <p:spPr>
          <a:xfrm>
            <a:off x="5438880" y="3209760"/>
            <a:ext cx="40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既存のアクセスブロック登録画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正方形/長方形 10"/>
          <p:cNvSpPr/>
          <p:nvPr/>
        </p:nvSpPr>
        <p:spPr>
          <a:xfrm>
            <a:off x="5288040" y="6546960"/>
            <a:ext cx="40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既存のアクセスブロック一覧画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スライド番号プレースホルダー 6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E7C0C-A89A-4413-8A09-3EA02EB8424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登録機能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アクセスをブロックするメンバ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登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下記の動作を行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ブロック一覧画面（図３参照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メンバ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入力して「送信」ボタンを押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追加メッセージを表示（図４参照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782640" y="3801960"/>
            <a:ext cx="3505320" cy="2390760"/>
          </a:xfrm>
          <a:prstGeom prst="rect">
            <a:avLst/>
          </a:prstGeom>
          <a:ln w="0">
            <a:noFill/>
          </a:ln>
        </p:spPr>
      </p:pic>
      <p:sp>
        <p:nvSpPr>
          <p:cNvPr id="63" name="正方形/長方形 1"/>
          <p:cNvSpPr/>
          <p:nvPr/>
        </p:nvSpPr>
        <p:spPr>
          <a:xfrm>
            <a:off x="6942960" y="676260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: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アクセスブロック一覧画面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正方形/長方形 2"/>
          <p:cNvSpPr/>
          <p:nvPr/>
        </p:nvSpPr>
        <p:spPr>
          <a:xfrm>
            <a:off x="511200" y="6473880"/>
            <a:ext cx="431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追加メッセージを表示した一覧画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5" name="図 1" descr=""/>
          <p:cNvPicPr/>
          <p:nvPr/>
        </p:nvPicPr>
        <p:blipFill>
          <a:blip r:embed="rId2"/>
          <a:stretch/>
        </p:blipFill>
        <p:spPr>
          <a:xfrm>
            <a:off x="4643280" y="1290600"/>
            <a:ext cx="5486400" cy="524520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578560" y="1866960"/>
            <a:ext cx="3168720" cy="863640"/>
          </a:xfrm>
          <a:prstGeom prst="rect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図 9" descr=""/>
          <p:cNvPicPr/>
          <p:nvPr/>
        </p:nvPicPr>
        <p:blipFill>
          <a:blip r:embed="rId1"/>
          <a:stretch/>
        </p:blipFill>
        <p:spPr>
          <a:xfrm>
            <a:off x="4862520" y="1851120"/>
            <a:ext cx="4824360" cy="4613040"/>
          </a:xfrm>
          <a:prstGeom prst="rect">
            <a:avLst/>
          </a:prstGeom>
          <a:ln w="0">
            <a:noFill/>
          </a:ln>
        </p:spPr>
      </p:pic>
      <p:sp>
        <p:nvSpPr>
          <p:cNvPr id="68" name="スライド番号プレースホルダー 6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96FAB-011F-4983-8528-7551B1F5C24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一覧機能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8308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アクセスブロックを登録したメンバーを表示（図５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０件のページャ表示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下記の要素を記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プロフィール画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ニックネー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メンバ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削除リン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51320" y="1420920"/>
            <a:ext cx="45849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654520" y="2946240"/>
            <a:ext cx="2953080" cy="3589560"/>
          </a:xfrm>
          <a:prstGeom prst="rect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正方形/長方形 7"/>
          <p:cNvSpPr/>
          <p:nvPr/>
        </p:nvSpPr>
        <p:spPr>
          <a:xfrm>
            <a:off x="5295960" y="6535800"/>
            <a:ext cx="407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: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既存のアクセスブロック一覧画面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図 2" descr=""/>
          <p:cNvPicPr/>
          <p:nvPr/>
        </p:nvPicPr>
        <p:blipFill>
          <a:blip r:embed="rId1"/>
          <a:stretch/>
        </p:blipFill>
        <p:spPr>
          <a:xfrm>
            <a:off x="4325760" y="2462040"/>
            <a:ext cx="4929480" cy="1752840"/>
          </a:xfrm>
          <a:prstGeom prst="rect">
            <a:avLst/>
          </a:prstGeom>
          <a:ln w="0">
            <a:noFill/>
          </a:ln>
        </p:spPr>
      </p:pic>
      <p:pic>
        <p:nvPicPr>
          <p:cNvPr id="75" name="図 1" descr=""/>
          <p:cNvPicPr/>
          <p:nvPr/>
        </p:nvPicPr>
        <p:blipFill>
          <a:blip r:embed="rId2"/>
          <a:stretch/>
        </p:blipFill>
        <p:spPr>
          <a:xfrm>
            <a:off x="4321080" y="887400"/>
            <a:ext cx="5305680" cy="1333440"/>
          </a:xfrm>
          <a:prstGeom prst="rect">
            <a:avLst/>
          </a:prstGeom>
          <a:ln w="0">
            <a:noFill/>
          </a:ln>
        </p:spPr>
      </p:pic>
      <p:sp>
        <p:nvSpPr>
          <p:cNvPr id="76" name="スライド番号プレースホルダー 6"/>
          <p:cNvSpPr/>
          <p:nvPr/>
        </p:nvSpPr>
        <p:spPr>
          <a:xfrm>
            <a:off x="7280280" y="6942240"/>
            <a:ext cx="2116080" cy="5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86327-AFDF-485F-AEAF-98E8C421A4D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43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削除機能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アクセスブロックを登録している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を削除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・下記の動作を行う（図６参照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アクセスブロック一覧画面（図６上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削除リンクを押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削除確認画面へ遷移（図６中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「削除する」ボタンを押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　　　　　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・削除メッセージを表示（図６下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8462880" y="1433520"/>
            <a:ext cx="720720" cy="360360"/>
          </a:xfrm>
          <a:prstGeom prst="rect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540480" y="3603600"/>
            <a:ext cx="755640" cy="289080"/>
          </a:xfrm>
          <a:prstGeom prst="rect">
            <a:avLst/>
          </a:prstGeom>
          <a:noFill/>
          <a:ln w="720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正方形/長方形 10"/>
          <p:cNvSpPr/>
          <p:nvPr/>
        </p:nvSpPr>
        <p:spPr>
          <a:xfrm>
            <a:off x="4070520" y="6769080"/>
            <a:ext cx="6295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ja-JP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図</a:t>
            </a:r>
            <a:r>
              <a:rPr b="0" lang="en-US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6:</a:t>
            </a:r>
            <a:r>
              <a:rPr b="0" lang="ja-JP" sz="17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指定したメンバーに対するアクセスブロックの登録を削除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図 3" descr=""/>
          <p:cNvPicPr/>
          <p:nvPr/>
        </p:nvPicPr>
        <p:blipFill>
          <a:blip r:embed="rId3"/>
          <a:stretch/>
        </p:blipFill>
        <p:spPr>
          <a:xfrm>
            <a:off x="4336920" y="4346640"/>
            <a:ext cx="4907160" cy="2400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yuya</cp:lastModifiedBy>
  <dcterms:modified xsi:type="dcterms:W3CDTF">2011-05-09T08:02:02Z</dcterms:modified>
  <cp:revision>14</cp:revision>
  <dc:subject/>
  <dc:title>PowerPoint Presentation</dc:title>
</cp:coreProperties>
</file>